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3EE7-738E-41F2-A997-9DF3FD094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03B5-C1E0-4AF7-958F-C48CCB47C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DA09-69BC-47D8-873E-7B6545152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8AFF-8861-4958-BE24-A6F36AA50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1905-86F2-4067-9BCA-C1D23C8F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2127-A099-4F65-A03B-CF18E8CD3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0A93-DFD2-44EC-A41F-40520980F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C1E2-D142-4CD0-A9F8-90425E568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DDF3-52C3-426C-9C68-12C69A2E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F03E-6B02-4153-B6FE-95E01449C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4524-1825-48FC-B6A4-59A0EF655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D636-8B09-44E8-951D-CC1F1874B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F74-0D5E-4C3A-88A7-6D3A6070F351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seph.Esposito@cms.hhs.go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inancial Statement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have a positive net worth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a surplus basis or have sufficient net worth to breakev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good standing with its state regulato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92AF-B295-4B42-9922-29A5EDBE0A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Joseph.Esposito@cms.hhs.gov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ED44-BE2A-4DAB-897B-7824C1AC6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4T20:43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9759899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